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AF67-8BA9-469D-AE81-9BC2B3F0C1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2C93-5E60-490F-93AE-E7E5A18FF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4428-F41F-4443-B32F-5698F6724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DCC4-658D-4700-8C6B-405D0C982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BA58-299A-4BF0-84BE-22F1BEC56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883A-E5F7-4B53-893C-8002482E6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4009-1E35-4150-BAD2-AC88FA439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EC39-F94D-4A2F-BF35-A7BDD62C0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9637-7B61-451B-AADB-B61644FFB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56BC-5196-449C-BC4C-567EF0092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A9F0-4FF2-4B2C-9B32-951482846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3496-61E5-405B-AEB2-E1E2AF366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647F-1637-429F-8DDD-114ED63D5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0C4F-370F-4627-8DB4-2DDE42961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1E51-E252-47EE-9ED2-B5FB8EC94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C125-B6C0-4E54-9CD6-8607F1C5D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B23-BC9F-435D-950F-8B8052E3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5A0-A785-44F8-BC1B-2682601B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83C-117F-4846-9FD1-9253CA17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7B5-C72E-45BD-BF35-F38DC634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33A-19D0-44F7-ADE5-B6A0D27D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EB8-69AB-4390-A290-A57AD6D0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D97-475A-424F-9DFD-390049F0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50C-602F-4A9C-A1CC-668DC90E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227-382D-4F8A-9991-45658294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043-0682-4535-82F4-495D97C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D42-E1A5-4C70-8C5F-213CD71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2C5-45B5-409E-8F36-096CC021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3714-8877-4C88-8EAC-0BF69C36C8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1A52-BC0E-4172-A7FA-78A375320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69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cosystems and Their Interactions</a:t>
            </a:r>
            <a:br>
              <a:rPr sz="3200"/>
            </a:br>
            <a:br>
              <a:rPr sz="32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T: Food Webs &amp; Energy Flow in Ecosyste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are organisms that produce their own energy through photosynthesis.  They are also known as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totroph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Example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IMG_0539.JPG"/>
          <p:cNvPicPr/>
          <p:nvPr/>
        </p:nvPicPr>
        <p:blipFill>
          <a:blip r:embed="rId1"/>
          <a:stretch/>
        </p:blipFill>
        <p:spPr>
          <a:xfrm>
            <a:off x="2514600" y="236232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48320" y="9907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re organisms that get their energy by eating other organisms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lso known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tro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Exampl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DSC_0307182.jpg"/>
          <p:cNvPicPr/>
          <p:nvPr/>
        </p:nvPicPr>
        <p:blipFill>
          <a:blip r:embed="rId1"/>
          <a:stretch/>
        </p:blipFill>
        <p:spPr>
          <a:xfrm>
            <a:off x="304920" y="457200"/>
            <a:ext cx="39272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0" y="2286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identified more specific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im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– eats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cond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) – eats primary 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ti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– eats secondary 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Quarternary Consu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4°consumer) – eats secondary 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tertiary (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457200" y="225360"/>
            <a:ext cx="83818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t’s plug some organisms into these names to make more sense of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ss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du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cause it makes its energy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lady bug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im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grass which is a produ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rog would b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cond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lady bug which is a primary consu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nake would b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ti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frog which is a secondary consu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We will come back to these examples late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four types o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(not 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3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an you guess what they are?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rb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only eats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rn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only eats 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mn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eats both plants and 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compos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breaks down dead organic mater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2308320"/>
            <a:ext cx="830556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 you show the energy transferred through (in) ecosyst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828800" y="4191120"/>
            <a:ext cx="5562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Times New Roman"/>
              </a:rPr>
              <a:t>food chains </a:t>
            </a:r>
            <a:r>
              <a:rPr b="1" lang="en-US" sz="3200" spc="-1" strike="noStrike">
                <a:solidFill>
                  <a:srgbClr val="898989"/>
                </a:solidFill>
                <a:latin typeface="Arial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Times New Roman"/>
              </a:rPr>
              <a:t>food we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839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  <a:ea typeface="Times New Roman"/>
              </a:rPr>
              <a:t>Food chain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how the sequence in which energy is transferred from one organism to the next as one eats the other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38080" y="27432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ood web"/>
          <p:cNvPicPr/>
          <p:nvPr/>
        </p:nvPicPr>
        <p:blipFill>
          <a:blip r:embed="rId1"/>
          <a:stretch/>
        </p:blipFill>
        <p:spPr>
          <a:xfrm>
            <a:off x="-458640" y="-428760"/>
            <a:ext cx="10061280" cy="7716960"/>
          </a:xfrm>
          <a:prstGeom prst="rect">
            <a:avLst/>
          </a:prstGeom>
          <a:ln w="0">
            <a:noFill/>
          </a:ln>
        </p:spPr>
      </p:pic>
      <p:sp>
        <p:nvSpPr>
          <p:cNvPr id="78" name="Sun 3"/>
          <p:cNvSpPr/>
          <p:nvPr/>
        </p:nvSpPr>
        <p:spPr>
          <a:xfrm>
            <a:off x="2743200" y="-685800"/>
            <a:ext cx="2666880" cy="2666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5"/>
          <p:cNvCxnSpPr/>
          <p:nvPr/>
        </p:nvCxnSpPr>
        <p:spPr>
          <a:xfrm flipH="1">
            <a:off x="1828080" y="990720"/>
            <a:ext cx="1067400" cy="3816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0" name="Straight Arrow Connector 6"/>
          <p:cNvCxnSpPr/>
          <p:nvPr/>
        </p:nvCxnSpPr>
        <p:spPr>
          <a:xfrm>
            <a:off x="1141920" y="2971800"/>
            <a:ext cx="153000" cy="53424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1" name="Straight Arrow Connector 8"/>
          <p:cNvCxnSpPr/>
          <p:nvPr/>
        </p:nvCxnSpPr>
        <p:spPr>
          <a:xfrm>
            <a:off x="2361960" y="4343400"/>
            <a:ext cx="610200" cy="3816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2" name="Straight Arrow Connector 11"/>
          <p:cNvCxnSpPr/>
          <p:nvPr/>
        </p:nvCxnSpPr>
        <p:spPr>
          <a:xfrm>
            <a:off x="5562720" y="5029200"/>
            <a:ext cx="838800" cy="216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3" name="Straight Arrow Connector 13"/>
          <p:cNvCxnSpPr/>
          <p:nvPr/>
        </p:nvCxnSpPr>
        <p:spPr>
          <a:xfrm flipH="1" flipV="1">
            <a:off x="7466760" y="2590560"/>
            <a:ext cx="686520" cy="12960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84" name="TextBox 15"/>
          <p:cNvSpPr/>
          <p:nvPr/>
        </p:nvSpPr>
        <p:spPr>
          <a:xfrm>
            <a:off x="5105520" y="-304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arine Food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868320" y="152280"/>
            <a:ext cx="74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 how do you make a food chain?!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80880" y="137160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 ecosystem that you want to focus 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ou wouldn’t want to put together a rattlesnake, a penguin and a black bear because they obviously don’t live together in the same ecosyst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Choose an organism at each level (producer, primary consumer, secondary consumer, tertiary consumer, etc.) that would actually eat the one befor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Place your arrows correctly. Arrows ALWAYS point towards where the energy is GOING (towards who is doing the eat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709280" y="685800"/>
            <a:ext cx="579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 rules for making a food cha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33520" y="339840"/>
            <a:ext cx="8381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actually already made a food chain earli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ass is a producer because it makes its energy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lady bug is a primary consumer (or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grass which is a produ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frog would be a secondary consumer (or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lady bug which is a primary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nake would be a tertiary consumer (or 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frog which is a secondary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ll it’s a food ch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*Notice that the arrows are pointing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here the energy is go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not what is eating what)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l living things ultimately get their energy from the SUN (some directly and some indirectl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IMG_1045.JPG"/>
          <p:cNvPicPr/>
          <p:nvPr/>
        </p:nvPicPr>
        <p:blipFill>
          <a:blip r:embed="rId1"/>
          <a:stretch/>
        </p:blipFill>
        <p:spPr>
          <a:xfrm>
            <a:off x="1371600" y="533520"/>
            <a:ext cx="62866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457200" y="380880"/>
            <a:ext cx="8686800" cy="67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OD CHAIN CHALLE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think of a food chain?  Do you think you can draw it (with pictures or words)?  Do you think you could draw it with the arrows going in the right dire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*Remember, describe the direction the arrows are pointing by saying “producer to primary consumer” or “secondary consumer to tertiary consumer.”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“left to right” because food chains/webs can be drawn in any dir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it 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nak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y both mean the same th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ou could even draw them from top to bottom or bottom to top!  Just make sure the arrows are pointing in the right direction (towards where the energy is GO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ow try drawing your food chain (WITH NEW EXAMPLES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n your graphic organiz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6868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  <a:ea typeface="Times New Roman"/>
              </a:rPr>
              <a:t>Food web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show us what an ecosystem really looks like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Food webs are really a whole bunch of food chains.  They show us that organisms eat a lot more than just one th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ood chain"/>
          <p:cNvPicPr/>
          <p:nvPr/>
        </p:nvPicPr>
        <p:blipFill>
          <a:blip r:embed="rId1"/>
          <a:stretch/>
        </p:blipFill>
        <p:spPr>
          <a:xfrm>
            <a:off x="0" y="-1905120"/>
            <a:ext cx="9144000" cy="9982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762120" y="763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arine Foo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n 4"/>
          <p:cNvSpPr/>
          <p:nvPr/>
        </p:nvSpPr>
        <p:spPr>
          <a:xfrm>
            <a:off x="3886200" y="5410080"/>
            <a:ext cx="2666880" cy="266724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6"/>
          <p:cNvCxnSpPr/>
          <p:nvPr/>
        </p:nvCxnSpPr>
        <p:spPr>
          <a:xfrm flipV="1">
            <a:off x="5257800" y="4801320"/>
            <a:ext cx="2160" cy="608760"/>
          </a:xfrm>
          <a:prstGeom prst="straightConnector1">
            <a:avLst/>
          </a:prstGeom>
          <a:ln w="31680">
            <a:solidFill>
              <a:srgbClr val="7f7f7f"/>
            </a:solidFill>
            <a:miter/>
            <a:tailEnd len="med" type="arrow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 Food Webs &amp; Food Ch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webs are made of many food ch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webs show the transfer of energy in the ENTIRE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OPHIC LEVEL PYRAMID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trophic=energ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ach step in the transfer of energy through an ecosystem is known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ophic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838080" y="2438280"/>
            <a:ext cx="7620120" cy="4191120"/>
            <a:chOff x="838080" y="2438280"/>
            <a:chExt cx="7620120" cy="4191120"/>
          </a:xfrm>
        </p:grpSpPr>
        <p:sp>
          <p:nvSpPr>
            <p:cNvPr id="99" name="AutoShape 3"/>
            <p:cNvSpPr/>
            <p:nvPr/>
          </p:nvSpPr>
          <p:spPr>
            <a:xfrm>
              <a:off x="838080" y="2438280"/>
              <a:ext cx="7620120" cy="419112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0"/>
            <p:cNvGrpSpPr/>
            <p:nvPr/>
          </p:nvGrpSpPr>
          <p:grpSpPr>
            <a:xfrm>
              <a:off x="1752480" y="2895480"/>
              <a:ext cx="5791320" cy="3645360"/>
              <a:chOff x="1752480" y="2895480"/>
              <a:chExt cx="5791320" cy="3645360"/>
            </a:xfrm>
          </p:grpSpPr>
          <p:sp>
            <p:nvSpPr>
              <p:cNvPr id="101" name="Line 4"/>
              <p:cNvSpPr/>
              <p:nvPr/>
            </p:nvSpPr>
            <p:spPr>
              <a:xfrm>
                <a:off x="1752480" y="5639040"/>
                <a:ext cx="57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5"/>
              <p:cNvSpPr/>
              <p:nvPr/>
            </p:nvSpPr>
            <p:spPr>
              <a:xfrm>
                <a:off x="2666880" y="4648320"/>
                <a:ext cx="40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6"/>
              <p:cNvSpPr/>
              <p:nvPr/>
            </p:nvSpPr>
            <p:spPr>
              <a:xfrm>
                <a:off x="3504960" y="373356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7"/>
              <p:cNvSpPr/>
              <p:nvPr/>
            </p:nvSpPr>
            <p:spPr>
              <a:xfrm>
                <a:off x="3124080" y="5715360"/>
                <a:ext cx="3124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ducers (photosynthesi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8"/>
              <p:cNvSpPr/>
              <p:nvPr/>
            </p:nvSpPr>
            <p:spPr>
              <a:xfrm>
                <a:off x="3733560" y="487692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imary Consum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3809880" y="3809880"/>
                <a:ext cx="1828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ondary Consum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11"/>
              <p:cNvSpPr/>
              <p:nvPr/>
            </p:nvSpPr>
            <p:spPr>
              <a:xfrm>
                <a:off x="3733560" y="289548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tiary Consum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2"/>
          <p:cNvSpPr/>
          <p:nvPr/>
        </p:nvSpPr>
        <p:spPr>
          <a:xfrm>
            <a:off x="76320" y="15228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is a 90% energy </a:t>
            </a:r>
            <a:r>
              <a:rPr b="1" i="1" lang="en-US" sz="3600" spc="-1" strike="noStrike">
                <a:solidFill>
                  <a:srgbClr val="17375e"/>
                </a:solidFill>
                <a:latin typeface="Times New Roman"/>
              </a:rPr>
              <a:t>los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r>
              <a:rPr b="1" lang="en-US" sz="3600" spc="-1" strike="noStrike">
                <a:solidFill>
                  <a:srgbClr val="17375e"/>
                </a:solidFill>
                <a:latin typeface="Times New Roman"/>
              </a:rPr>
              <a:t>trophic level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0" y="152280"/>
            <a:ext cx="9144000" cy="6631920"/>
            <a:chOff x="0" y="152280"/>
            <a:chExt cx="9144000" cy="6631920"/>
          </a:xfrm>
        </p:grpSpPr>
        <p:sp>
          <p:nvSpPr>
            <p:cNvPr id="110" name="AutoShape 2"/>
            <p:cNvSpPr/>
            <p:nvPr/>
          </p:nvSpPr>
          <p:spPr>
            <a:xfrm>
              <a:off x="0" y="152280"/>
              <a:ext cx="9144000" cy="6629400"/>
            </a:xfrm>
            <a:prstGeom prst="triangle">
              <a:avLst>
                <a:gd name="adj" fmla="val 4975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"/>
            <p:cNvSpPr/>
            <p:nvPr/>
          </p:nvSpPr>
          <p:spPr>
            <a:xfrm>
              <a:off x="990360" y="5410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"/>
            <p:cNvSpPr/>
            <p:nvPr/>
          </p:nvSpPr>
          <p:spPr>
            <a:xfrm>
              <a:off x="1904760" y="396216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19160" y="266688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828800" y="5867280"/>
              <a:ext cx="57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ers (Plant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666880" y="44956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im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2590560" y="304776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cond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0"/>
            <p:cNvSpPr/>
            <p:nvPr/>
          </p:nvSpPr>
          <p:spPr>
            <a:xfrm>
              <a:off x="3657600" y="159984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rti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8001000" y="6324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7086600" y="49528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6248520" y="35049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5410080" y="2209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2"/>
          <p:cNvSpPr/>
          <p:nvPr/>
        </p:nvSpPr>
        <p:spPr>
          <a:xfrm>
            <a:off x="6324480" y="763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ing… only </a:t>
            </a:r>
            <a:r>
              <a:rPr b="1" lang="en-US" sz="3600" spc="-1" strike="noStrike">
                <a:solidFill>
                  <a:srgbClr val="17375e"/>
                </a:solidFill>
                <a:latin typeface="Times New Roman"/>
              </a:rPr>
              <a:t>10%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the energy is transfer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 rot="3250200">
            <a:off x="6390720" y="369144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the loss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57200" y="209520"/>
            <a:ext cx="84582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se questions, then go back to the last slid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f you can answe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think there are so many organisms on the bottom of the pyram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provide all of the energy for the entire ecosystem; they are the basis of the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are there so few at the top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is not enough energy to have lots of top consu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0" y="152280"/>
            <a:ext cx="8686800" cy="57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se questions, then go back to the last slid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f you can answe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one level that is more important than the others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rs are the most important because they provide energy for the entire eco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10_____ % is passed on between trophic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90____ % is lost between trophic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ne exception to the rul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emoautotrophs!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Use chemicals to make energ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Example: Bacteria found in the deepest parts of the ocean feed off of hydrogen sulfide released from deep sea v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http://www.sciencedawn.com/pictures/Sully_Vent.jpg"/>
          <p:cNvPicPr/>
          <p:nvPr/>
        </p:nvPicPr>
        <p:blipFill>
          <a:blip r:embed="rId1"/>
          <a:stretch/>
        </p:blipFill>
        <p:spPr>
          <a:xfrm>
            <a:off x="0" y="2095560"/>
            <a:ext cx="6348240" cy="4762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microbewiki.kenyon.edu/images/thumb/d/d4/Hydrothermal-vent.jpg/400px-Hydrothermal-vent.jpg"/>
          <p:cNvPicPr/>
          <p:nvPr/>
        </p:nvPicPr>
        <p:blipFill>
          <a:blip r:embed="rId2"/>
          <a:stretch/>
        </p:blipFill>
        <p:spPr>
          <a:xfrm>
            <a:off x="5326200" y="0"/>
            <a:ext cx="3809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s://stories.californiasunday.com/data/files/organization/2343/image/derivative/scale~1000x5000~1102ffmont-1414729700-69.jpg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://images.slideplayer.com/24/6926878/slides/slide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thefisheriesblog.files.wordpress.com/2012/10/e9b20-deep-sea-20diagram.png"/>
          <p:cNvPicPr/>
          <p:nvPr/>
        </p:nvPicPr>
        <p:blipFill>
          <a:blip r:embed="rId1"/>
          <a:stretch/>
        </p:blipFill>
        <p:spPr>
          <a:xfrm>
            <a:off x="533520" y="457200"/>
            <a:ext cx="81342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IMG_0550.JPG"/>
          <p:cNvPicPr/>
          <p:nvPr/>
        </p:nvPicPr>
        <p:blipFill>
          <a:blip r:embed="rId1"/>
          <a:stretch/>
        </p:blipFill>
        <p:spPr>
          <a:xfrm>
            <a:off x="-53352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9753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lants, algae and some bacteria can capture solar energy and store it as food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9753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f1de"/>
                </a:solidFill>
                <a:latin typeface="Arial"/>
                <a:ea typeface="Times New Roman"/>
              </a:rPr>
              <a:t>What is this process called?</a:t>
            </a:r>
            <a:r>
              <a:rPr b="1" lang="en-US" sz="3600" spc="-1" strike="noStrike">
                <a:solidFill>
                  <a:srgbClr val="ebf1d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93cddd"/>
                </a:solidFill>
                <a:latin typeface="Calibri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synthesis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s://s-media-cache-ak0.pinimg.com/736x/f1/8e/e9/f18ee9641a3c4eb45c31dfaa0eed1f7e.jpg"/>
          <p:cNvPicPr/>
          <p:nvPr/>
        </p:nvPicPr>
        <p:blipFill>
          <a:blip r:embed="rId1"/>
          <a:stretch/>
        </p:blipFill>
        <p:spPr>
          <a:xfrm>
            <a:off x="1066680" y="1905120"/>
            <a:ext cx="70106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6:38:15Z</dcterms:created>
  <dc:creator>Matthaei, Cari</dc:creator>
  <dc:description/>
  <dc:language>en-US</dc:language>
  <cp:lastModifiedBy>Builder</cp:lastModifiedBy>
  <dcterms:modified xsi:type="dcterms:W3CDTF">2016-05-19T14:09:16Z</dcterms:modified>
  <cp:revision>23</cp:revision>
  <dc:subject/>
  <dc:title>Ecosystems and Their Interactions  Energy Flow in Ecosystems</dc:title>
</cp:coreProperties>
</file>